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556F-D0AE-4F67-B823-2CF1802E09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806-6970-4691-BA53-77DF8654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4292-7DCD-4AAB-970B-5251856C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B26-4205-4119-86FE-FE49B1F4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1CC-3881-4C40-9EFC-AFA47D53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931-24C0-4033-A82E-5DA131A0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67F-1D88-4226-BA9A-BF39A097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99C-938C-4504-9C5A-99C17681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8B8-34C9-4C3A-8F1B-EA52D58B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CE7-71B0-4725-BB69-D2A2367B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273-4DE2-4F18-B863-E4D0E51A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191-CB62-4A97-A1B5-F252A184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0C2F-5C8B-4D9F-9BC7-EC616BBA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C6F2-B423-4A06-80E3-73672A2A1A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31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34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4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4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50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51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52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53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54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55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5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62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80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1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2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83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4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5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86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7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8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89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0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1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92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3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4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95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6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7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98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9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0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201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2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3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204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5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7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8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9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0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61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2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8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9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72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3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8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9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0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82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3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90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1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2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93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4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101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2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3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104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5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11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2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3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14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5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21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2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3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24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5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LEGION</cp:lastModifiedBy>
  <dcterms:modified xsi:type="dcterms:W3CDTF">2017-07-03T10:09:14Z</dcterms:modified>
  <cp:revision>44</cp:revision>
  <dc:subject/>
  <dc:title>British History</dc:title>
</cp:coreProperties>
</file>